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342E-653E-40E4-BC41-F2FAABB68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3C4-BCD6-4339-B977-2BD1BD218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E0E1-11A5-4266-B138-0809C05FE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2481-2350-4392-B06D-18BBB3711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CCD-C296-47DC-9106-CA54F4E3A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A340-7D81-46EB-A710-12A1B6C0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7D21-8A09-4DC1-AD4F-A6F33106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EA7C-D9FC-40AD-A1EF-EDF45CF4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E0CC-FB7E-4E9A-BFD7-2B123ED6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842B-79E7-482A-B5AD-E13DE6CBE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16ED-8E9D-490F-8CB7-76A74A7F6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BE40-C139-4E00-BE27-2CA7EDEB7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2DDB7-679D-4C2C-9C03-FC2FE374AA6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26.png"/><Relationship Id="rId4" Type="http://schemas.openxmlformats.org/officeDocument/2006/relationships/image" Target="../media/image29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916360" y="2133720"/>
            <a:ext cx="4248000" cy="38876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611280" y="404640"/>
            <a:ext cx="2303280" cy="16574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4000" y="2781360"/>
            <a:ext cx="2519280" cy="15843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6300720" y="5013360"/>
            <a:ext cx="2640240" cy="1584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971640" y="4869000"/>
            <a:ext cx="2305080" cy="15843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7020000" y="2781360"/>
            <a:ext cx="1871640" cy="1584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6769080" y="333360"/>
            <a:ext cx="2374920" cy="17287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132000" y="549360"/>
            <a:ext cx="299736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8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859280" y="3328920"/>
            <a:ext cx="3191040" cy="35290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5857920" y="404640"/>
            <a:ext cx="3286080" cy="3057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276720" y="4292640"/>
            <a:ext cx="1704960" cy="21146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187280" y="4365720"/>
            <a:ext cx="1686240" cy="197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5280" y="40464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le fit un fromag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1680" y="1052640"/>
            <a:ext cx="53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7640" y="1700280"/>
            <a:ext cx="372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lle fit un from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 lait de ses moutons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on 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2997360"/>
            <a:ext cx="59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u lait de ses mou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8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9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0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5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2665440" cy="2546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153120" y="0"/>
            <a:ext cx="2990880" cy="37623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3280" y="2933640"/>
            <a:ext cx="3071880" cy="392436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3924360" y="4869000"/>
            <a:ext cx="1501560" cy="17557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2050920" y="4797360"/>
            <a:ext cx="1952640" cy="113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95280" y="549360"/>
            <a:ext cx="55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 chat qui la regar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91680" y="1197000"/>
            <a:ext cx="537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94200" y="1844640"/>
            <a:ext cx="449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Le chat qui la regard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4000" y="249228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’un petit air fripon </a:t>
            </a:r>
            <a:r>
              <a:rPr b="1" i="1" lang="en-GB" sz="3200" spc="-1" strike="noStrike">
                <a:solidFill>
                  <a:srgbClr val="000000"/>
                </a:solidFill>
                <a:latin typeface="Arial"/>
              </a:rPr>
              <a:t>ron r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95280" y="321300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’un petit air frip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0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5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5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0"/>
                            </p:stCondLst>
                            <p:childTnLst>
                              <p:par>
                                <p:cTn id="32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3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8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2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3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4941720"/>
            <a:ext cx="8209080" cy="16560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404640"/>
            <a:ext cx="1835280" cy="16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484360" y="404640"/>
            <a:ext cx="1943280" cy="16560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932360" y="549360"/>
            <a:ext cx="1944720" cy="16574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549360"/>
            <a:ext cx="1800360" cy="1655640"/>
          </a:xfrm>
          <a:prstGeom prst="rect">
            <a:avLst/>
          </a:prstGeom>
          <a:solidFill>
            <a:srgbClr val="f9f92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2349360"/>
            <a:ext cx="1692360" cy="1800360"/>
          </a:xfrm>
          <a:prstGeom prst="rect">
            <a:avLst/>
          </a:prstGeom>
          <a:solidFill>
            <a:srgbClr val="ee271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84360" y="2349360"/>
            <a:ext cx="1871640" cy="1800360"/>
          </a:xfrm>
          <a:prstGeom prst="rect">
            <a:avLst/>
          </a:prstGeom>
          <a:solidFill>
            <a:srgbClr val="fb7f0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59280" y="2492280"/>
            <a:ext cx="1873440" cy="180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236000" y="2349360"/>
            <a:ext cx="1728720" cy="201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4653000"/>
            <a:ext cx="1908000" cy="19447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56000" y="4581360"/>
            <a:ext cx="1942920" cy="194328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859280" y="4581360"/>
            <a:ext cx="2017800" cy="194328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236000" y="4653000"/>
            <a:ext cx="1728720" cy="194472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3492360" y="2997360"/>
            <a:ext cx="2443320" cy="15588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2924280"/>
            <a:ext cx="1919160" cy="2087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635280" y="4797360"/>
            <a:ext cx="2232000" cy="1657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250920" y="620640"/>
            <a:ext cx="2232000" cy="21798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3419640" y="692280"/>
            <a:ext cx="2033280" cy="1780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6"/>
          <a:stretch/>
        </p:blipFill>
        <p:spPr>
          <a:xfrm>
            <a:off x="6732720" y="476280"/>
            <a:ext cx="1728720" cy="21607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7"/>
          <a:stretch/>
        </p:blipFill>
        <p:spPr>
          <a:xfrm>
            <a:off x="6659640" y="2349360"/>
            <a:ext cx="2192400" cy="2664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8"/>
          <a:stretch/>
        </p:blipFill>
        <p:spPr>
          <a:xfrm>
            <a:off x="395280" y="4797360"/>
            <a:ext cx="2089080" cy="17240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9"/>
          <a:stretch/>
        </p:blipFill>
        <p:spPr>
          <a:xfrm>
            <a:off x="6948360" y="4848120"/>
            <a:ext cx="194328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2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5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400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4500"/>
                            </p:stCondLst>
                            <p:childTnLst>
                              <p:par>
                                <p:cTn id="15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5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500"/>
                            </p:stCondLst>
                            <p:childTnLst>
                              <p:par>
                                <p:cTn id="16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5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5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5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80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500"/>
                            </p:stCondLst>
                            <p:childTnLst>
                              <p:par>
                                <p:cTn id="194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5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216072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5580000" y="0"/>
            <a:ext cx="2808360" cy="2421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979640" y="191628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hampign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56360" y="234936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pois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2708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roiss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3068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jam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3500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citr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86064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 chocol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00000" y="4653000"/>
            <a:ext cx="30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oign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609300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mel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59280" y="5445000"/>
            <a:ext cx="35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cornich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5805360"/>
            <a:ext cx="28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a conf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40360" y="501336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s bonb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4437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s sandwic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203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687 -1.79191E-006 L 0.575 -1.79191E-006 E">
                                      <p:cBhvr>
                                        <p:cTn id="205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941 -0.00023 L -0.62223 -0.00023 E">
                                      <p:cBhvr>
                                        <p:cTn id="20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746 -3.06358E-006 L 0.56684 -3.06358E-006 E">
                                      <p:cBhvr>
                                        <p:cTn id="20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0625 -0.00023 L 0.24809 -0.00023 E">
                                      <p:cBhvr>
                                        <p:cTn id="21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323 -0.00023 L -0.54723 -0.00023 E">
                                      <p:cBhvr>
                                        <p:cTn id="213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625 -0.00023 L -0.57084 -0.00023 E">
                                      <p:cBhvr>
                                        <p:cTn id="21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11111E-006 -4.50867E-006 L -0.2441 -4.50867E-006 E">
                                      <p:cBhvr>
                                        <p:cTn id="217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82 2.48555E-006 L -0.59861 2.48555E-006 E">
                                      <p:cBhvr>
                                        <p:cTn id="219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859280" y="907920"/>
            <a:ext cx="34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’ad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234936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’a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3789360"/>
            <a:ext cx="39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e n’aime p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88000" y="537372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80"/>
                </a:solidFill>
                <a:latin typeface="Arial"/>
              </a:rPr>
              <a:t>Je d</a:t>
            </a:r>
            <a:r>
              <a:rPr b="1" lang="en-US" sz="3200" spc="-1" strike="noStrike">
                <a:solidFill>
                  <a:srgbClr val="800080"/>
                </a:solidFill>
                <a:latin typeface="Arial"/>
                <a:ea typeface="Arial"/>
              </a:rPr>
              <a:t>éte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543640" y="0"/>
            <a:ext cx="3600360" cy="3414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95280" y="3781440"/>
            <a:ext cx="8440920" cy="30765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404640"/>
            <a:ext cx="56880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était une bergè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t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n et ron petit patapo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était une bergèr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 gardait ses moutons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n r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i gardait ses mout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6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8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5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5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6T16:38:41Z</dcterms:created>
  <dc:creator>jbiddle</dc:creator>
  <dc:description/>
  <dc:language>en-US</dc:language>
  <cp:lastModifiedBy>jbiddle</cp:lastModifiedBy>
  <dcterms:modified xsi:type="dcterms:W3CDTF">2008-11-29T21:42:51Z</dcterms:modified>
  <cp:revision>5</cp:revision>
  <dc:subject/>
  <dc:title>Slide 1</dc:title>
</cp:coreProperties>
</file>